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13.jpeg" ContentType="image/jpeg"/>
  <Override PartName="/ppt/media/image3.wmf" ContentType="image/x-wmf"/>
  <Override PartName="/ppt/media/image1.png" ContentType="image/png"/>
  <Override PartName="/ppt/media/drumroll.wav" ContentType="audio/x-wav"/>
  <Override PartName="/ppt/media/image2.jpeg" ContentType="image/jpeg"/>
  <Override PartName="/ppt/media/image4.jpeg" ContentType="image/jpeg"/>
  <Override PartName="/ppt/media/applause.wav" ContentType="audio/x-wav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E54-A571-4F6A-B74A-AF8545E3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21E-CEC2-403C-8853-D65B7793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83E-5F1A-4612-A178-1D166A31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68D-41D5-4715-B536-4A0766E7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124F-076F-484B-8903-0666687F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0727-A8F0-4421-85BF-4492B8EA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E89C-BE80-492F-BE8A-82BC0526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A872-0B96-46BB-8B00-22744F23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F4B8-FB1F-4C8F-B6AF-F0846620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9C50-6085-43C6-93D1-40E8A83B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0428-2A01-4F15-BA5F-E8A98203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65D-6F37-4780-80E7-B8CF6611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0961-4A72-424C-9FEE-55A7962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CDAF-5BE0-42A9-AB4F-DF1C7987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498C-10F9-4E88-BC04-2C41051B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2C05-3387-4695-B4CA-D2003D27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211E-1095-4FF1-BB3F-DD20174B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DAC-2742-46CB-BDBB-6D1B0547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479-0329-48E1-85A1-24403AAE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62A-6A00-4DAE-A340-6DB78D5D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6EA-A514-4B1E-B282-0B83708D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0A4-F227-4916-8BC8-5F594E6B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60C-CE3E-4E17-B56A-9BD591B8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628-AAB3-426F-BC17-25837974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A069-5842-4BD3-B868-AB4394760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E0CF-2402-4E20-837B-AB9199DF6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4419360" cy="1981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Dinosaurs of Waterhouse Hawkins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3 Week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9" descr="THE DINOSAURS OF WATERHOUSE HAWKINS"/>
          <p:cNvPicPr/>
          <p:nvPr/>
        </p:nvPicPr>
        <p:blipFill>
          <a:blip r:embed="rId1"/>
          <a:stretch/>
        </p:blipFill>
        <p:spPr>
          <a:xfrm>
            <a:off x="4952880" y="152280"/>
            <a:ext cx="3905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cy is watching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healthy foods verses sweets that she ea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rect installation among par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rect relations between ite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441972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ound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so important for building a sturdy struc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eful pl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rting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057400" y="4267080"/>
            <a:ext cx="4648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can find lots of tools in Dan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orksho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om where items are m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om where workers plan meet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371600" y="3809880"/>
            <a:ext cx="6095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mazing rollercoast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rect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 the winter seas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sign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il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362320" y="4495680"/>
            <a:ext cx="4038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used a can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ake that pumpkin shap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llow for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etched canv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514600" y="3657600"/>
            <a:ext cx="39625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idi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is apartment before his parents came over for a vis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larged and decorat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eaned and organiz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676520" y="4343400"/>
            <a:ext cx="55623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guests arrived on time for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cca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ned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ev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819520" y="4495680"/>
            <a:ext cx="3581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295280"/>
            <a:ext cx="335268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04920" y="2438280"/>
            <a:ext cx="3886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33520" y="3505320"/>
            <a:ext cx="3504960" cy="761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09480" y="4495680"/>
            <a:ext cx="335304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495680" y="1905120"/>
            <a:ext cx="38862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4952880" y="3429000"/>
            <a:ext cx="32767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20"/>
          <p:cNvSpPr/>
          <p:nvPr/>
        </p:nvSpPr>
        <p:spPr>
          <a:xfrm>
            <a:off x="4876920" y="5029200"/>
            <a:ext cx="33526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657240" y="17524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ace or building where work is d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962520" y="304920"/>
            <a:ext cx="39621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MPj04395670000[1]"/>
          <p:cNvPicPr/>
          <p:nvPr/>
        </p:nvPicPr>
        <p:blipFill>
          <a:blip r:embed="rId1"/>
          <a:stretch/>
        </p:blipFill>
        <p:spPr>
          <a:xfrm>
            <a:off x="0" y="0"/>
            <a:ext cx="3968640" cy="594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MCj02957510000[1]"/>
          <p:cNvPicPr/>
          <p:nvPr/>
        </p:nvPicPr>
        <p:blipFill>
          <a:blip r:embed="rId2"/>
          <a:stretch/>
        </p:blipFill>
        <p:spPr>
          <a:xfrm>
            <a:off x="5867280" y="4191120"/>
            <a:ext cx="20908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733920" y="137160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hollow shape in which anything is formed, cast, or solidifi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114800" y="152280"/>
            <a:ext cx="34290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3" descr="MPj01784480000[1]"/>
          <p:cNvPicPr/>
          <p:nvPr/>
        </p:nvPicPr>
        <p:blipFill>
          <a:blip r:embed="rId1"/>
          <a:stretch/>
        </p:blipFill>
        <p:spPr>
          <a:xfrm>
            <a:off x="304920" y="228600"/>
            <a:ext cx="300492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31XknArozWL"/>
          <p:cNvPicPr/>
          <p:nvPr/>
        </p:nvPicPr>
        <p:blipFill>
          <a:blip r:embed="rId2"/>
          <a:stretch/>
        </p:blipFill>
        <p:spPr>
          <a:xfrm>
            <a:off x="5562720" y="373392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412uRwWjD6L"/>
          <p:cNvPicPr/>
          <p:nvPr/>
        </p:nvPicPr>
        <p:blipFill>
          <a:blip r:embed="rId3"/>
          <a:stretch/>
        </p:blipFill>
        <p:spPr>
          <a:xfrm>
            <a:off x="3886200" y="1523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26708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special even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419720" y="533520"/>
            <a:ext cx="335268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1" descr="j0216588"/>
          <p:cNvPicPr/>
          <p:nvPr/>
        </p:nvPicPr>
        <p:blipFill>
          <a:blip r:embed="rId1"/>
          <a:stretch/>
        </p:blipFill>
        <p:spPr>
          <a:xfrm>
            <a:off x="6781680" y="3886200"/>
            <a:ext cx="1609920" cy="1808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j0305493"/>
          <p:cNvPicPr/>
          <p:nvPr/>
        </p:nvPicPr>
        <p:blipFill>
          <a:blip r:embed="rId2"/>
          <a:stretch/>
        </p:blipFill>
        <p:spPr>
          <a:xfrm>
            <a:off x="4191120" y="480060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MCPE02322_0000[1]"/>
          <p:cNvPicPr/>
          <p:nvPr/>
        </p:nvPicPr>
        <p:blipFill>
          <a:blip r:embed="rId3"/>
          <a:stretch/>
        </p:blipFill>
        <p:spPr>
          <a:xfrm>
            <a:off x="3733920" y="2666880"/>
            <a:ext cx="1687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76360" y="190512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ut up; buil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809880" y="380880"/>
            <a:ext cx="35053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MPj04389050000[1]"/>
          <p:cNvPicPr/>
          <p:nvPr/>
        </p:nvPicPr>
        <p:blipFill>
          <a:blip r:embed="rId1"/>
          <a:stretch/>
        </p:blipFill>
        <p:spPr>
          <a:xfrm>
            <a:off x="1600200" y="1905120"/>
            <a:ext cx="6400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505320" y="1828800"/>
            <a:ext cx="5333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per relation amo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962520" y="457200"/>
            <a:ext cx="350496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6" descr="proportion.jpg"/>
          <p:cNvPicPr/>
          <p:nvPr/>
        </p:nvPicPr>
        <p:blipFill>
          <a:blip r:embed="rId1"/>
          <a:stretch/>
        </p:blipFill>
        <p:spPr>
          <a:xfrm>
            <a:off x="4648320" y="3809880"/>
            <a:ext cx="2703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73392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ut in order; made nea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962520" y="304920"/>
            <a:ext cx="396216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MPj04373420000[1]"/>
          <p:cNvPicPr/>
          <p:nvPr/>
        </p:nvPicPr>
        <p:blipFill>
          <a:blip r:embed="rId1"/>
          <a:stretch/>
        </p:blipFill>
        <p:spPr>
          <a:xfrm>
            <a:off x="4572000" y="3943440"/>
            <a:ext cx="35053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58128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s on which the other parts rest for support;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962520" y="304920"/>
            <a:ext cx="39621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unda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MPPH03252I0000[1]"/>
          <p:cNvPicPr/>
          <p:nvPr/>
        </p:nvPicPr>
        <p:blipFill>
          <a:blip r:embed="rId1"/>
          <a:stretch/>
        </p:blipFill>
        <p:spPr>
          <a:xfrm>
            <a:off x="152280" y="228600"/>
            <a:ext cx="3625920" cy="6324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MCj00787470000[1]"/>
          <p:cNvPicPr/>
          <p:nvPr/>
        </p:nvPicPr>
        <p:blipFill>
          <a:blip r:embed="rId2"/>
          <a:stretch/>
        </p:blipFill>
        <p:spPr>
          <a:xfrm>
            <a:off x="5597640" y="1981080"/>
            <a:ext cx="11491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HPS</cp:lastModifiedBy>
  <dcterms:modified xsi:type="dcterms:W3CDTF">2013-04-03T18:53:16Z</dcterms:modified>
  <cp:revision>75</cp:revision>
  <dc:subject/>
  <dc:title>Frindle Vocabulary Words</dc:title>
</cp:coreProperties>
</file>